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407340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407340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080FD20-407F-4D10-B4D4-F2240BD639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955600" y="9045720"/>
            <a:ext cx="127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2D3E70F-8DCC-4164-BEA0-340F568AD2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7037CFC-97A9-4117-A8BC-EC0725289DB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96EC15D-4AEF-41DC-A1A1-89E8110894E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1FA1D8C-2F02-4A55-8168-C8F686A1F6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E82C1B1-EBA8-4828-B669-242A8CEFC61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04EBCEC-D271-4ADA-97E2-40D2F547E8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DF24DAC-FF69-43AA-92D0-0944C70D22C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D8B4F73-7A6C-4CDE-B1EF-41CB9DCA502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F95CA9C-339D-4781-800B-ED51598BFA0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374D51E-9951-4BCB-8033-ADDA44F46D9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5044957-20A9-4EF0-86A0-CC18A8C4C9E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4746775-3D17-41EA-A4D5-21E519FF133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44DB511-3923-4BD3-BDCE-3848E72B33D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5BD9370-B647-42B7-91FF-C0CC25AC6DA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7C097F0-158A-4F6D-B5B2-EACFA7A4A01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A3013BE-1876-42CF-AED5-7882FA35189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9F35211-87CD-4872-A822-65BE350FA2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9C416AE-336F-403F-B256-B4F81DEAD37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5B05A0B-081E-426C-B9BE-E1D72A9E3F3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DE9F824-EE98-4CE8-97BD-702A0B7B148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28F0A98-BA3F-4910-A903-ACE5F1A2A08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74F83EB-556E-4C28-A5E7-A3FB1D7967D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7359006-545E-4E02-A947-D038EC27C6B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B62A27A-21C5-46EE-8BF6-E4167807BEA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78CB262-FF48-47B1-B77B-E86C45FC7E5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66387AF-076D-4BB9-AFA4-36B120CDD1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B4F2A11-2C14-4C4B-B331-4AFDBA39A54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6730948-044B-4128-BAB3-244397BA6E3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0A97D46-18E5-4D5D-B799-C0F4150CC18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21E4135-880C-4043-BD3D-3914DA9AC9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6758EC2-3E1D-40BE-955D-1A10FE2233A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A83A449-555B-490A-A51E-96A873A82EC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B44C72A-38F8-4336-AB6A-DF490F32C45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660584A-D9C0-4ECB-83DD-D61F058C42C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3980FD8-9FE1-4C79-9170-BF87EB1D7B9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1E1275F-EA20-4FA5-ACA5-98BC639D7A8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5A2B421-8805-4E83-A3F9-A12841943A8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BB28869-B0D5-48B2-A668-EDF3E44728F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FD288A3-031A-4D10-9BB6-127024EF9B3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791618C-BE96-40C3-BAD6-1AC3F151073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1C84A34-D5A9-408A-AAD8-98B46038AF8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9F4755D-54D0-4B77-A789-B6B1EC815BD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391EEC8-50C5-4B10-85F7-87DC8992EA1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8BA5A07-5861-4A8F-8A76-D4E76C33A75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9BE6FBD-7E00-410B-9AEB-1BE0179C496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C2FEA4E-1E18-46D8-A56E-53A5B025EA3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F507BBD-E82D-42B3-AD7A-DBEC7C34CF4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91B6086-66E6-4B5B-A3AB-6081BFD39E6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D20F583-E075-488D-8FD8-54DA2835218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988CD98-0AFF-4C72-8A0B-885F2DAFB20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59E94BD-32C8-40A2-85D6-24DAEDD2C14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F8595121-30E5-42C8-BB9E-3B7D0F463BAB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9AD925B-D8F0-43A3-9979-89912A77DE70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0240" y="926640"/>
            <a:ext cx="81234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ftware Qualit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sts and Inspe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50,000 LOC system without inspec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ystem contains 25+ defects/KLOC at test ent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at is 1250 def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the typical 10+ hours per defect, that is 12,500+ programmer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at is 6 programmer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properly planned, these tests could be done in 12 to 15 month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unplanned, testing could take 2 years or mo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sts and Inspe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01720" y="1450800"/>
            <a:ext cx="7724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50,000 LOC system with inspec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s take about 10 programmer hours per 250 LOC, or about 2,000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1 programmer yea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ne well, inspections can remove about 80% of the def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means 250 defects would be left for t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ould take about 2,500 hours, or a savings o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programmer yea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sts and Inspection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quality will be sharply improv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ral thousand hours could probably be sav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 should still be done. The inspection focus should be on desig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incipal advantages of inspection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ed product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predictable schedu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to focus on the important quality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Fix Time Dat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82640" y="1447920"/>
            <a:ext cx="82360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typical fix time rati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BM rules of thumb: coding = 1.5; testing = 60; usage = 1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ehm: design = 1; development test = 15 to 40; acceptance test = 30 to 70; operation = 40 to 1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us: design = 1; code = 20; test = 8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kerman: test = 2 to 10 times inspection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ssell: inspection = 1; test = 2 to 4; use = 3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research: unit test takes 12 times longer than code review to find and fix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ost of Quality (COQ)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Q is a way to measure process qual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Q ha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lure cos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aisal cos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cos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ost of Quality (COQ)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88760" y="1450800"/>
            <a:ext cx="76230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lure costs are repair, rework, and scrap.  In PSP, failure costs include all compile and tes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aisal costs are the costs of inspecting for defects.  In PSP, appraisal costs include all design and code review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ost of Quality (COQ)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cos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finding and resolving defect ca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generally handled before projects st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typically be a process and not a project a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SP, examples of prevention cost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al specification or design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typ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analysis and improv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ost of Quality (COQ)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1360" y="1450800"/>
            <a:ext cx="8085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useful COQ measure is the ratio of appraisal to failure costs (A/FR).  This i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ppraisal COQ) / (failure COQ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/FR exper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/FR measure is not widely u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measured, most software organizations would be near zer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SP, A/FR should exceed 2.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A/FR is associated with low numbers of test defects and high product qual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Quality Strategy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89120" y="1463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your PSP quality objectives, i.e.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ing all defects before the first comp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hieving high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ing accurate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PSP process quality measures, i.e.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all process yie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Q appraisal versus failure costs (A/F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 reviewed per ho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performance index (CP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Quality Strategy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ine the projects that you have complet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ir ratings on these measu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which behaviors had an effect on these resul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these data, identify the most effective practices for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rporate these practices in your process by us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scrip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li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Quality Strategy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89120" y="1463400"/>
            <a:ext cx="771192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measures that will reasonably predict process qual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these as control variab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specifications for these variab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 your performance against these specific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 your process to determ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and when to change the specifica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s that will improve the process fur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Benchmarking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01360" y="1450800"/>
            <a:ext cx="7561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ethod for tracking process improvement shou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quality and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 means for comparing processes used by different people or organiz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insensitive to project specif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l process benchmarking typically deals with the ability of the process 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products within specif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stand drift and perturb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ftware Benchmarking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01360" y="1450800"/>
            <a:ext cx="7862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present, software benchmarking techniques are process- depend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chmarks are still useful, however, as long as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objectiv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 them over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m for improving the process for which they are de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s should not be made among individuals or organizations using process-sensitive benchmar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Software Benchmark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 consistent set of measures for evaluating your process perform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these measures on every pro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individual projects to determine trends or probl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nd track short-term improvement goals against these measu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nd track long-term improvement goals against these measu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Benchmarking Dat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89120" y="1450800"/>
            <a:ext cx="7835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llowing data are from various students in the PSP course at Carnegie Mellon University in the spring of 1994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ata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by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vs. A/F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/FR vs. test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vity by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vs.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/FR vs.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549440" y="533520"/>
            <a:ext cx="6210360" cy="57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045120" cy="56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1562040" y="520560"/>
            <a:ext cx="6210360" cy="57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562040" y="520560"/>
            <a:ext cx="613404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qual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and process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economic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ality strate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acterizing a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chmarking a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mov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preven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Yield Versus A/FR Conclus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01360" y="1450800"/>
            <a:ext cx="7559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and A/FR are closely related for these stud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is considerable variation among student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A/FR ratios appear to lead to higher yiel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s of 70+% are not achieved without A/FRs near 1.0 or abo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A/FR does not guarantee high yield; the appraisal time must be spent effective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 rot="16200000">
            <a:off x="576360" y="3342960"/>
            <a:ext cx="18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574640" y="546120"/>
            <a:ext cx="605808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 rot="16200000">
            <a:off x="576360" y="3342960"/>
            <a:ext cx="18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st Defects Versus A/F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8760" y="1450800"/>
            <a:ext cx="7748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are reduced by high A/FR ratios for all stud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get very low numbers of test defects, A/FR values of above 2.0 appear to be requi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A/FRs between 1.0 and 2.0, low test defects are occasionally obtain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an A/FR below 1.0, low test defects are ra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75"/>
          <p:cNvGrpSpPr/>
          <p:nvPr/>
        </p:nvGrpSpPr>
        <p:grpSpPr>
          <a:xfrm>
            <a:off x="927000" y="628560"/>
            <a:ext cx="6568920" cy="5396040"/>
            <a:chOff x="927000" y="628560"/>
            <a:chExt cx="6568920" cy="5396040"/>
          </a:xfrm>
        </p:grpSpPr>
        <p:sp>
          <p:nvSpPr>
            <p:cNvPr id="224" name="Rectangle 2"/>
            <p:cNvSpPr/>
            <p:nvPr/>
          </p:nvSpPr>
          <p:spPr>
            <a:xfrm rot="16200000">
              <a:off x="757080" y="3487320"/>
              <a:ext cx="4316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vert="eaVer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5" name="Rectangle 4"/>
            <p:cNvSpPr/>
            <p:nvPr/>
          </p:nvSpPr>
          <p:spPr>
            <a:xfrm>
              <a:off x="1657080" y="628560"/>
              <a:ext cx="5838840" cy="5396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2850840" y="2290680"/>
              <a:ext cx="1800" cy="27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7" name="Line 6"/>
            <p:cNvSpPr/>
            <p:nvPr/>
          </p:nvSpPr>
          <p:spPr>
            <a:xfrm>
              <a:off x="2786040" y="503892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8" name="Line 7"/>
            <p:cNvSpPr/>
            <p:nvPr/>
          </p:nvSpPr>
          <p:spPr>
            <a:xfrm>
              <a:off x="2786040" y="476100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9" name="Line 8"/>
            <p:cNvSpPr/>
            <p:nvPr/>
          </p:nvSpPr>
          <p:spPr>
            <a:xfrm>
              <a:off x="2786040" y="448164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0" name="Line 9"/>
            <p:cNvSpPr/>
            <p:nvPr/>
          </p:nvSpPr>
          <p:spPr>
            <a:xfrm>
              <a:off x="2786040" y="422136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1" name="Line 10"/>
            <p:cNvSpPr/>
            <p:nvPr/>
          </p:nvSpPr>
          <p:spPr>
            <a:xfrm>
              <a:off x="2786040" y="394200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2" name="Line 11"/>
            <p:cNvSpPr/>
            <p:nvPr/>
          </p:nvSpPr>
          <p:spPr>
            <a:xfrm>
              <a:off x="2786040" y="366408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>
              <a:off x="2786040" y="3386160"/>
              <a:ext cx="12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>
              <a:off x="2786040" y="3108240"/>
              <a:ext cx="12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5" name="Line 14"/>
            <p:cNvSpPr/>
            <p:nvPr/>
          </p:nvSpPr>
          <p:spPr>
            <a:xfrm>
              <a:off x="2786040" y="284652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>
              <a:off x="2786040" y="2568600"/>
              <a:ext cx="12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7" name="Line 16"/>
            <p:cNvSpPr/>
            <p:nvPr/>
          </p:nvSpPr>
          <p:spPr>
            <a:xfrm>
              <a:off x="2786040" y="2290680"/>
              <a:ext cx="12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8" name="Line 17"/>
            <p:cNvSpPr/>
            <p:nvPr/>
          </p:nvSpPr>
          <p:spPr>
            <a:xfrm>
              <a:off x="2850840" y="5038920"/>
              <a:ext cx="286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9" name="Line 18"/>
            <p:cNvSpPr/>
            <p:nvPr/>
          </p:nvSpPr>
          <p:spPr>
            <a:xfrm flipV="1">
              <a:off x="2850840" y="497196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0" name="Line 19"/>
            <p:cNvSpPr/>
            <p:nvPr/>
          </p:nvSpPr>
          <p:spPr>
            <a:xfrm flipV="1">
              <a:off x="3162240" y="4971960"/>
              <a:ext cx="144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1" name="Line 20"/>
            <p:cNvSpPr/>
            <p:nvPr/>
          </p:nvSpPr>
          <p:spPr>
            <a:xfrm flipV="1">
              <a:off x="3489120" y="497196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2" name="Line 21"/>
            <p:cNvSpPr/>
            <p:nvPr/>
          </p:nvSpPr>
          <p:spPr>
            <a:xfrm flipV="1">
              <a:off x="3798720" y="4971960"/>
              <a:ext cx="144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 flipV="1">
              <a:off x="4125600" y="497196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4" name="Line 23"/>
            <p:cNvSpPr/>
            <p:nvPr/>
          </p:nvSpPr>
          <p:spPr>
            <a:xfrm flipV="1">
              <a:off x="4437000" y="4971960"/>
              <a:ext cx="144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5" name="Line 24"/>
            <p:cNvSpPr/>
            <p:nvPr/>
          </p:nvSpPr>
          <p:spPr>
            <a:xfrm flipV="1">
              <a:off x="4763880" y="497196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 flipV="1">
              <a:off x="5074920" y="497196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7" name="Line 26"/>
            <p:cNvSpPr/>
            <p:nvPr/>
          </p:nvSpPr>
          <p:spPr>
            <a:xfrm flipV="1">
              <a:off x="5402160" y="4971960"/>
              <a:ext cx="144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V="1">
              <a:off x="5713200" y="497196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9" name="Freeform 28"/>
            <p:cNvSpPr/>
            <p:nvPr/>
          </p:nvSpPr>
          <p:spPr>
            <a:xfrm>
              <a:off x="2850840" y="2552760"/>
              <a:ext cx="2862360" cy="1422360"/>
            </a:xfrm>
            <a:custGeom>
              <a:avLst/>
              <a:gdLst/>
              <a:ahLst/>
              <a:rect l="l" t="t" r="r" b="b"/>
              <a:pathLst>
                <a:path w="175" h="87">
                  <a:moveTo>
                    <a:pt x="0" y="15"/>
                  </a:moveTo>
                  <a:lnTo>
                    <a:pt x="19" y="28"/>
                  </a:lnTo>
                  <a:lnTo>
                    <a:pt x="39" y="52"/>
                  </a:lnTo>
                  <a:lnTo>
                    <a:pt x="58" y="55"/>
                  </a:lnTo>
                  <a:lnTo>
                    <a:pt x="78" y="55"/>
                  </a:lnTo>
                  <a:lnTo>
                    <a:pt x="97" y="70"/>
                  </a:lnTo>
                  <a:lnTo>
                    <a:pt x="117" y="66"/>
                  </a:lnTo>
                  <a:lnTo>
                    <a:pt x="136" y="87"/>
                  </a:lnTo>
                  <a:lnTo>
                    <a:pt x="156" y="0"/>
                  </a:lnTo>
                  <a:lnTo>
                    <a:pt x="175" y="33"/>
                  </a:lnTo>
                </a:path>
              </a:pathLst>
            </a:custGeom>
            <a:noFill/>
            <a:ln w="0">
              <a:solidFill>
                <a:srgbClr val="008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0" name="Freeform 29"/>
            <p:cNvSpPr/>
            <p:nvPr/>
          </p:nvSpPr>
          <p:spPr>
            <a:xfrm>
              <a:off x="2850840" y="4449960"/>
              <a:ext cx="2862360" cy="407880"/>
            </a:xfrm>
            <a:custGeom>
              <a:avLst/>
              <a:gdLst/>
              <a:ahLst/>
              <a:rect l="l" t="t" r="r" b="b"/>
              <a:pathLst>
                <a:path w="175" h="25">
                  <a:moveTo>
                    <a:pt x="0" y="25"/>
                  </a:moveTo>
                  <a:lnTo>
                    <a:pt x="19" y="18"/>
                  </a:lnTo>
                  <a:lnTo>
                    <a:pt x="39" y="18"/>
                  </a:lnTo>
                  <a:lnTo>
                    <a:pt x="58" y="3"/>
                  </a:lnTo>
                  <a:lnTo>
                    <a:pt x="78" y="18"/>
                  </a:lnTo>
                  <a:lnTo>
                    <a:pt x="97" y="7"/>
                  </a:lnTo>
                  <a:lnTo>
                    <a:pt x="117" y="5"/>
                  </a:lnTo>
                  <a:lnTo>
                    <a:pt x="136" y="8"/>
                  </a:lnTo>
                  <a:lnTo>
                    <a:pt x="156" y="14"/>
                  </a:lnTo>
                  <a:lnTo>
                    <a:pt x="175" y="0"/>
                  </a:lnTo>
                </a:path>
              </a:pathLst>
            </a:custGeom>
            <a:noFill/>
            <a:ln w="0">
              <a:solidFill>
                <a:srgbClr val="0000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1" name="Freeform 30"/>
            <p:cNvSpPr/>
            <p:nvPr/>
          </p:nvSpPr>
          <p:spPr>
            <a:xfrm>
              <a:off x="2850840" y="4024440"/>
              <a:ext cx="2862360" cy="718920"/>
            </a:xfrm>
            <a:custGeom>
              <a:avLst/>
              <a:gdLst/>
              <a:ahLst/>
              <a:rect l="l" t="t" r="r" b="b"/>
              <a:pathLst>
                <a:path w="175" h="44">
                  <a:moveTo>
                    <a:pt x="0" y="32"/>
                  </a:moveTo>
                  <a:lnTo>
                    <a:pt x="19" y="44"/>
                  </a:lnTo>
                  <a:lnTo>
                    <a:pt x="39" y="44"/>
                  </a:lnTo>
                  <a:lnTo>
                    <a:pt x="58" y="6"/>
                  </a:lnTo>
                  <a:lnTo>
                    <a:pt x="78" y="22"/>
                  </a:lnTo>
                  <a:lnTo>
                    <a:pt x="97" y="18"/>
                  </a:lnTo>
                  <a:lnTo>
                    <a:pt x="117" y="14"/>
                  </a:lnTo>
                  <a:lnTo>
                    <a:pt x="136" y="18"/>
                  </a:lnTo>
                  <a:lnTo>
                    <a:pt x="156" y="13"/>
                  </a:lnTo>
                  <a:lnTo>
                    <a:pt x="17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2" name="Rectangle 31"/>
            <p:cNvSpPr/>
            <p:nvPr/>
          </p:nvSpPr>
          <p:spPr>
            <a:xfrm>
              <a:off x="2801880" y="4498920"/>
              <a:ext cx="98280" cy="9684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3" name="Rectangle 32"/>
            <p:cNvSpPr/>
            <p:nvPr/>
          </p:nvSpPr>
          <p:spPr>
            <a:xfrm>
              <a:off x="3112920" y="4694400"/>
              <a:ext cx="96840" cy="9828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4" name="Rectangle 33"/>
            <p:cNvSpPr/>
            <p:nvPr/>
          </p:nvSpPr>
          <p:spPr>
            <a:xfrm>
              <a:off x="3439800" y="4694400"/>
              <a:ext cx="98640" cy="9828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5" name="Rectangle 34"/>
            <p:cNvSpPr/>
            <p:nvPr/>
          </p:nvSpPr>
          <p:spPr>
            <a:xfrm>
              <a:off x="3749400" y="4073760"/>
              <a:ext cx="98640" cy="9828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6" name="Rectangle 35"/>
            <p:cNvSpPr/>
            <p:nvPr/>
          </p:nvSpPr>
          <p:spPr>
            <a:xfrm>
              <a:off x="4078080" y="4335480"/>
              <a:ext cx="96840" cy="9684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7" name="Rectangle 36"/>
            <p:cNvSpPr/>
            <p:nvPr/>
          </p:nvSpPr>
          <p:spPr>
            <a:xfrm>
              <a:off x="4387680" y="4268880"/>
              <a:ext cx="98280" cy="9828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8" name="Rectangle 37"/>
            <p:cNvSpPr/>
            <p:nvPr/>
          </p:nvSpPr>
          <p:spPr>
            <a:xfrm>
              <a:off x="4714560" y="4203720"/>
              <a:ext cx="98640" cy="9864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9" name="Rectangle 38"/>
            <p:cNvSpPr/>
            <p:nvPr/>
          </p:nvSpPr>
          <p:spPr>
            <a:xfrm>
              <a:off x="5025960" y="4268880"/>
              <a:ext cx="98280" cy="9828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0" name="Rectangle 39"/>
            <p:cNvSpPr/>
            <p:nvPr/>
          </p:nvSpPr>
          <p:spPr>
            <a:xfrm>
              <a:off x="5352840" y="4187880"/>
              <a:ext cx="98640" cy="9828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1" name="Rectangle 40"/>
            <p:cNvSpPr/>
            <p:nvPr/>
          </p:nvSpPr>
          <p:spPr>
            <a:xfrm>
              <a:off x="5663880" y="3975120"/>
              <a:ext cx="98640" cy="9864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2" name="Rectangle 41"/>
            <p:cNvSpPr/>
            <p:nvPr/>
          </p:nvSpPr>
          <p:spPr>
            <a:xfrm>
              <a:off x="2435040" y="1014480"/>
              <a:ext cx="4011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Productivity Trend - Student </a:t>
              </a:r>
              <a:endParaRPr b="1" lang="en-US" sz="23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3" name="Rectangle 42"/>
            <p:cNvSpPr/>
            <p:nvPr/>
          </p:nvSpPr>
          <p:spPr>
            <a:xfrm>
              <a:off x="4403880" y="1406520"/>
              <a:ext cx="32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3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4" name="Rectangle 43"/>
            <p:cNvSpPr/>
            <p:nvPr/>
          </p:nvSpPr>
          <p:spPr>
            <a:xfrm>
              <a:off x="2572920" y="490716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5" name="Rectangle 44"/>
            <p:cNvSpPr/>
            <p:nvPr/>
          </p:nvSpPr>
          <p:spPr>
            <a:xfrm>
              <a:off x="2457000" y="462924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6" name="Rectangle 45"/>
            <p:cNvSpPr/>
            <p:nvPr/>
          </p:nvSpPr>
          <p:spPr>
            <a:xfrm>
              <a:off x="2457000" y="435132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7" name="Rectangle 46"/>
            <p:cNvSpPr/>
            <p:nvPr/>
          </p:nvSpPr>
          <p:spPr>
            <a:xfrm>
              <a:off x="2457000" y="408960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8" name="Rectangle 47"/>
            <p:cNvSpPr/>
            <p:nvPr/>
          </p:nvSpPr>
          <p:spPr>
            <a:xfrm>
              <a:off x="2457000" y="381168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9" name="Rectangle 48"/>
            <p:cNvSpPr/>
            <p:nvPr/>
          </p:nvSpPr>
          <p:spPr>
            <a:xfrm>
              <a:off x="2457000" y="353376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0" name="Rectangle 49"/>
            <p:cNvSpPr/>
            <p:nvPr/>
          </p:nvSpPr>
          <p:spPr>
            <a:xfrm>
              <a:off x="2457000" y="325620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1" name="Rectangle 50"/>
            <p:cNvSpPr/>
            <p:nvPr/>
          </p:nvSpPr>
          <p:spPr>
            <a:xfrm>
              <a:off x="2457000" y="297828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2" name="Rectangle 51"/>
            <p:cNvSpPr/>
            <p:nvPr/>
          </p:nvSpPr>
          <p:spPr>
            <a:xfrm>
              <a:off x="2457000" y="271620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3" name="Rectangle 52"/>
            <p:cNvSpPr/>
            <p:nvPr/>
          </p:nvSpPr>
          <p:spPr>
            <a:xfrm>
              <a:off x="2457000" y="243864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4" name="Rectangle 53"/>
            <p:cNvSpPr/>
            <p:nvPr/>
          </p:nvSpPr>
          <p:spPr>
            <a:xfrm>
              <a:off x="2342160" y="2158920"/>
              <a:ext cx="3254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5" name="Rectangle 54"/>
            <p:cNvSpPr/>
            <p:nvPr/>
          </p:nvSpPr>
          <p:spPr>
            <a:xfrm>
              <a:off x="280152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6" name="Rectangle 55"/>
            <p:cNvSpPr/>
            <p:nvPr/>
          </p:nvSpPr>
          <p:spPr>
            <a:xfrm>
              <a:off x="311256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7" name="Rectangle 56"/>
            <p:cNvSpPr/>
            <p:nvPr/>
          </p:nvSpPr>
          <p:spPr>
            <a:xfrm>
              <a:off x="343944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8" name="Rectangle 57"/>
            <p:cNvSpPr/>
            <p:nvPr/>
          </p:nvSpPr>
          <p:spPr>
            <a:xfrm>
              <a:off x="374904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9" name="Rectangle 58"/>
            <p:cNvSpPr/>
            <p:nvPr/>
          </p:nvSpPr>
          <p:spPr>
            <a:xfrm>
              <a:off x="407772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0" name="Rectangle 59"/>
            <p:cNvSpPr/>
            <p:nvPr/>
          </p:nvSpPr>
          <p:spPr>
            <a:xfrm>
              <a:off x="438732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1" name="Rectangle 60"/>
            <p:cNvSpPr/>
            <p:nvPr/>
          </p:nvSpPr>
          <p:spPr>
            <a:xfrm>
              <a:off x="471420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2" name="Rectangle 61"/>
            <p:cNvSpPr/>
            <p:nvPr/>
          </p:nvSpPr>
          <p:spPr>
            <a:xfrm>
              <a:off x="502560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3" name="Rectangle 62"/>
            <p:cNvSpPr/>
            <p:nvPr/>
          </p:nvSpPr>
          <p:spPr>
            <a:xfrm>
              <a:off x="535248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4" name="Rectangle 63"/>
            <p:cNvSpPr/>
            <p:nvPr/>
          </p:nvSpPr>
          <p:spPr>
            <a:xfrm>
              <a:off x="5663520" y="521820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5" name="Rectangle 64"/>
            <p:cNvSpPr/>
            <p:nvPr/>
          </p:nvSpPr>
          <p:spPr>
            <a:xfrm>
              <a:off x="3207960" y="5627880"/>
              <a:ext cx="218016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Program Number</a:t>
              </a:r>
              <a:endParaRPr b="1" lang="en-US" sz="2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6" name="Rectangle 65"/>
            <p:cNvSpPr/>
            <p:nvPr/>
          </p:nvSpPr>
          <p:spPr>
            <a:xfrm rot="16200000">
              <a:off x="1409400" y="3513600"/>
              <a:ext cx="12596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OC/Hour</a:t>
              </a:r>
              <a:endParaRPr b="1" lang="en-US" sz="2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7" name="Rectangle 66"/>
            <p:cNvSpPr/>
            <p:nvPr/>
          </p:nvSpPr>
          <p:spPr>
            <a:xfrm>
              <a:off x="6040440" y="3141720"/>
              <a:ext cx="1390320" cy="1046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8" name="Line 67"/>
            <p:cNvSpPr/>
            <p:nvPr/>
          </p:nvSpPr>
          <p:spPr>
            <a:xfrm>
              <a:off x="6122880" y="3336840"/>
              <a:ext cx="654120" cy="1800"/>
            </a:xfrm>
            <a:prstGeom prst="line">
              <a:avLst/>
            </a:prstGeom>
            <a:ln w="0">
              <a:solidFill>
                <a:srgbClr val="008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9" name="Rectangle 68"/>
            <p:cNvSpPr/>
            <p:nvPr/>
          </p:nvSpPr>
          <p:spPr>
            <a:xfrm>
              <a:off x="6825240" y="3189240"/>
              <a:ext cx="39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0" name="Line 69"/>
            <p:cNvSpPr/>
            <p:nvPr/>
          </p:nvSpPr>
          <p:spPr>
            <a:xfrm>
              <a:off x="6122880" y="3681360"/>
              <a:ext cx="654120" cy="1800"/>
            </a:xfrm>
            <a:prstGeom prst="line">
              <a:avLst/>
            </a:prstGeom>
            <a:ln w="0">
              <a:solidFill>
                <a:srgbClr val="0000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1" name="Rectangle 70"/>
            <p:cNvSpPr/>
            <p:nvPr/>
          </p:nvSpPr>
          <p:spPr>
            <a:xfrm>
              <a:off x="6825960" y="3533760"/>
              <a:ext cx="3603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2" name="Line 71"/>
            <p:cNvSpPr/>
            <p:nvPr/>
          </p:nvSpPr>
          <p:spPr>
            <a:xfrm>
              <a:off x="6122880" y="4024440"/>
              <a:ext cx="65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3" name="Rectangle 72"/>
            <p:cNvSpPr/>
            <p:nvPr/>
          </p:nvSpPr>
          <p:spPr>
            <a:xfrm>
              <a:off x="6400800" y="3975120"/>
              <a:ext cx="98280" cy="9864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4" name="Rectangle 73"/>
            <p:cNvSpPr/>
            <p:nvPr/>
          </p:nvSpPr>
          <p:spPr>
            <a:xfrm>
              <a:off x="6825960" y="3876840"/>
              <a:ext cx="505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tu2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is Software Quality?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c definition:  meeting the users’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eed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not wa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e functional needs are often unknow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is a hierarchy of nee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he required tas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performance requir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usable and conveni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economical and time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dependable and relia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562040" y="520560"/>
            <a:ext cx="6058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1562040" y="520560"/>
            <a:ext cx="61340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90560" y="446040"/>
            <a:ext cx="78724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Yield and A/FR Versus Productivit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89120" y="1450800"/>
            <a:ext cx="78991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vity has considerable variation among individu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some cases, high yield produces higher productivity, but in others, it does no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A/FR also sometimes results in high productivity and sometimes no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ly, yield and A/FR are somewhat independent of productiv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Benchmark Conclus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89120" y="1450800"/>
            <a:ext cx="76104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desirable to have high values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/F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yield and A/FR are closely related, a yield versus A/FR benchmarking chart would not be usefu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versus productivity or A/FR versus productivity would likely be useful benchmarking chart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Removal Strategie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89120" y="1450800"/>
            <a:ext cx="76723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inspections and reviews on specialt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D reviews:  structural issu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LD reviews:  logic correctn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reviews:  implementation detai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save time, do not add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issues in D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issues in code re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he reviews thoroughly the first time and then trust them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Removal Strategie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89120" y="1450800"/>
            <a:ext cx="7572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horough unit te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parameters at normal values, at limits, and outside limit valu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loops and recursions for normal and abnormal termin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dependencies among procedures and ob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horough system-level test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Prevention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13960" y="1450800"/>
            <a:ext cx="76122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prevention is important beca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always expensive to find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defects can be prevented, these costs are avoi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fect prevention analysis costs are incurred once, but save time on every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prevention should follow an orderly strategy and a defined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PSP, defect prevention actions include improved design methods and prototyp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Prevention Strategy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priorities for the defects types that are the m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quently-found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oublesome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-prevented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Prevention Strategy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338040" indent="-338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fect prevention process has the following ste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an established schedu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one or two defect types for initial ac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 and evaluate the effectiveness of the defect prevention ac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needed adjustments and continu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pendable and Reliab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be used, the software mu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all quickly and easi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consiste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erly handle normal and abnormal c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do destructive or unexpected thing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essentially bug-fre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tent bugs m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operationally insignific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e destru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rely be evi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Prevention Strategy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01360" y="1450800"/>
            <a:ext cx="7723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setting your initial priorities, consider the defect types found most frequently in integration and system t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SP data to pick one or two defect types for initial ac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’t just try harder; establish explicit prevention action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rporate these actions in your process scripts, checklists, and for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8760" y="1450800"/>
            <a:ext cx="7659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quality starts with defects manag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efects are not managed, more important quality issues cannot adequately be addres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most effective way to manage defects is with the individual software engine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don’t eliminate your own defects, they will be much more expensive and time-consuming to remove lat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is a Quality Process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quality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s quality produ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s its users’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the user of the PSP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s are yo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ers and associ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’s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Quality Focu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is course, defects are the basic quality measu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at bugs are not important to the user, as long as they do no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fect oper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use inconven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time or mon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use loss of confidence in the program’s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Quality Focu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89120" y="1450800"/>
            <a:ext cx="7673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fect content of software products must first be managed before other more important quality issues can be addres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software processes manage defects so poorly that little, if any, time is available for such important software quality issues 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all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ve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Quality Focu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01720" y="1450800"/>
            <a:ext cx="76104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defect content is an essential prerequisite to a quality software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defect content can best be achieved at the PSP leve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level is where the defects are injected, and this is where the engineers shou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the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ir ca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to prevent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8-11-05T17:39:36Z</cp:lastPrinted>
  <dcterms:modified xsi:type="dcterms:W3CDTF">2018-09-06T00:16:44Z</dcterms:modified>
  <cp:revision>61</cp:revision>
  <dc:subject/>
  <dc:title>No Slide Title</dc:title>
</cp:coreProperties>
</file>